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D64-D05B-4DFA-BCF1-67ACCC2A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F69-3784-400A-891E-B4BE73C7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9D9-547C-4976-A37E-EC1E5992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244-3A6A-4522-8DBF-7A6744F1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8F72-929D-475B-952F-9B95A0CA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EE0-BAFE-47EC-B2EF-DF36AB92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8E15-E9A9-4713-B4B2-271AE45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4F70-01D0-4ADF-BDD8-8BADD4B8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0B5-2E13-4AFF-B965-F447FA3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562-A915-4EF4-8C6C-A523A532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D7A-92F3-412D-92F5-7888276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6D3-0F1D-4764-BECE-15E58589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270A-8A51-4929-A958-03C6380F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68F3-230F-4928-B351-8F3E9D4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2228-0034-49A4-86D3-1E8FFCB7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A4D3-EDD4-44E4-B9CE-9E8D1769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A10F-7411-480F-A297-21FEE153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D5B-BC3B-4091-9354-F44D402D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4EA-BC79-4C78-A8C5-72F66A01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EDF-4385-46D9-9F92-48F4BA56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6E4-8F65-4F80-8D94-0BA4B1BA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E74-0A85-40D8-8902-2F14FEEB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33B-62B5-40E0-AD4C-A94B5BDD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440-1D5C-4866-A686-73315F1A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F51B-9579-42CB-BA36-8135569837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B50D-409B-41C3-BB02-0717AE6D32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Quiz on Solving Inequaliti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label your 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-10, skipping 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2895480"/>
            <a:ext cx="61372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8040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the following symbol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14479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dentify the following symbol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76720" y="2666880"/>
            <a:ext cx="22334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uld the following equation have an open or closed circl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2958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uld the following graph be shaded to the left or righ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0360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uld the following graph be shaded to the left or righ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0258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8640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6832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ve AND graph the following inequality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88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2:26:55Z</dcterms:created>
  <dc:creator>Christy Williams</dc:creator>
  <dc:description/>
  <dc:language>en-US</dc:language>
  <cp:lastModifiedBy>Christy Williams</cp:lastModifiedBy>
  <dcterms:modified xsi:type="dcterms:W3CDTF">2009-12-02T12:36:12Z</dcterms:modified>
  <cp:revision>1</cp:revision>
  <dc:subject/>
  <dc:title>Quiz on Solving Inequalities</dc:title>
</cp:coreProperties>
</file>